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FED61-C7A8-41CF-936A-88212EA14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F076D-9250-48BD-8519-4B0287144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03A0A-F604-4DB1-9043-F3D9E1C48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FD42A-EDA7-45B2-9E2A-C0CAA5C15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F284C-84FE-4E85-A140-D0D589AB0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1C97B-4BEA-4B85-91B6-129298560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912AA-EE0A-4E28-99CB-A46CFBAA1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0DF3E-8146-4FB0-8673-4B30D4A90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DC27F-F90F-4689-B402-863D40035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F8FF0-570A-4488-A995-E914C1992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5E7EF-D710-4C31-A3CB-098DBAA8A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EA9D4-876F-46B1-AC72-C9C40145B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5527A-C753-4F6E-A5FD-8E532162E5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 Light"/>
              </a:rPr>
              <a:t>5.</a:t>
            </a:r>
            <a:r>
              <a:rPr b="1" i="1" lang="el-GR" sz="2800" spc="-1" strike="noStrike">
                <a:solidFill>
                  <a:srgbClr val="000000"/>
                </a:solidFill>
                <a:latin typeface="Calibri Light"/>
              </a:rPr>
              <a:t>Φροντίδα των ρούχων: (σελ.6</a:t>
            </a:r>
            <a:r>
              <a:rPr b="1" i="1" lang="en-US" sz="2800" spc="-1" strike="noStrike">
                <a:solidFill>
                  <a:srgbClr val="000000"/>
                </a:solidFill>
                <a:latin typeface="Calibri Light"/>
              </a:rPr>
              <a:t>4</a:t>
            </a:r>
            <a:r>
              <a:rPr b="1" i="1" lang="el-GR" sz="2800" spc="-1" strike="noStrike">
                <a:solidFill>
                  <a:srgbClr val="000000"/>
                </a:solidFill>
                <a:latin typeface="Calibri Light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-360" y="2092320"/>
            <a:ext cx="6356520" cy="47656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ια την φροντίδα των ρούχων πρέπει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Να </a:t>
            </a:r>
            <a:r>
              <a:rPr b="1" i="1" lang="el-G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πλένονται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τακτικά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ριν από κάθε αγορά να γίνεται έλεγχος της </a:t>
            </a:r>
            <a:r>
              <a:rPr b="1" i="1" lang="el-G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ποιότητας, της σύνθεσης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του μεγέθους και του κόστους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Να φυλάσσονται σε διαφορετικό μέρος της </a:t>
            </a:r>
            <a:r>
              <a:rPr b="1" i="1" lang="el-G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ντουλάπας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τα καθαρά από τα χρησιμοποιημένα ρούχα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Τα καθημερινά </a:t>
            </a:r>
            <a:r>
              <a:rPr b="1" i="1" lang="el-G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ενδύματα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και </a:t>
            </a:r>
            <a:r>
              <a:rPr b="1" i="1" lang="el-G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παπούτσια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θα πρέπει να είναι κομψά, αλλά και άνετα για να γίνεται καλύτερα η κυκλοφορία του αίματος και η εξάτμιση του ιδρώτα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Σχετική εικόνα"/>
          <p:cNvPicPr/>
          <p:nvPr/>
        </p:nvPicPr>
        <p:blipFill>
          <a:blip r:embed="rId2"/>
          <a:stretch/>
        </p:blipFill>
        <p:spPr>
          <a:xfrm>
            <a:off x="6480000" y="4578480"/>
            <a:ext cx="2441880" cy="21384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" descr=""/>
          <p:cNvPicPr/>
          <p:nvPr/>
        </p:nvPicPr>
        <p:blipFill>
          <a:blip r:embed="rId3"/>
          <a:stretch/>
        </p:blipFill>
        <p:spPr>
          <a:xfrm>
            <a:off x="6396120" y="2193840"/>
            <a:ext cx="2495520" cy="1941480"/>
          </a:xfrm>
          <a:prstGeom prst="rect">
            <a:avLst/>
          </a:prstGeom>
          <a:ln w="0">
            <a:noFill/>
          </a:ln>
        </p:spPr>
      </p:pic>
      <p:sp>
        <p:nvSpPr>
          <p:cNvPr id="45" name="Content Placeholder 2"/>
          <p:cNvSpPr/>
          <p:nvPr/>
        </p:nvSpPr>
        <p:spPr>
          <a:xfrm>
            <a:off x="0" y="669960"/>
            <a:ext cx="9144000" cy="15048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Καλό ντύσιμο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είναι τα </a:t>
            </a:r>
            <a:r>
              <a:rPr b="1" i="1" lang="el-GR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καθαρά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κα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επιμελημένα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ρούχα που ταιριάζουν στη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ροσωπικότητα αυτού που τα φοράε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21T08:11:08Z</dcterms:created>
  <dc:creator>Era</dc:creator>
  <dc:description/>
  <dc:language>en-US</dc:language>
  <cp:lastModifiedBy>ΑΛΕΞΑΝΔΡΟΣ</cp:lastModifiedBy>
  <dcterms:modified xsi:type="dcterms:W3CDTF">2019-02-07T19:46:49Z</dcterms:modified>
  <cp:revision>58</cp:revision>
  <dc:subject/>
  <dc:title>PowerPoint Presentation</dc:title>
</cp:coreProperties>
</file>